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3BE-5765-4495-B724-65B9CCE1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D52-CCE1-4BEA-A5A8-5053FDF8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E2F-CFF1-4AB2-BFCB-AE99AF52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EB3-4003-4167-8151-A2AC33D8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4FA-2334-4C2E-BA1C-9FBF1E1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EAF-B135-4DE0-B7AB-53818F92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8D0-A1BE-47A9-9615-ACFC5046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470-F482-4E35-92E6-D70B2065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8AF-67E6-43AC-BD47-CFA87A6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046-2272-4471-9B77-3A6316D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01C-91A7-44ED-83C5-2E6594F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EE7-774E-4EEA-9BA5-B577F34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99A2-EECF-427E-B0C9-5762A42C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Poderosa_Afrodita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DIPO R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ito de Edipo Rey es una tragedia griega, en la que vemos como una persona puede llegar a cometer los más espantosos crím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1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a Martínez Monterro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batx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es de la trag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 que provoca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ios de estar implicado en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 final de la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yo y Yocasta acaban casándose cuando Layo recuperó el tr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73528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44800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yo y Yocasta tienen a su hijo Ed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4038480" cy="4565520"/>
            <a:chOff x="457200" y="1600200"/>
            <a:chExt cx="4038480" cy="45655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57200" y="1600200"/>
              <a:ext cx="4038480" cy="456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nace Edipo, Layo se lo entrega a un pastor, y este se lo dio a su amo, el fue quien lo crió, se lo entrego a este pastor porque temía que se cumpliera el oráculo, en el que Apolo le anunció que terminaría muriendo en manos de s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ipo cuando es joven se entera de que Pólibo no es su verdader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se enteró decidió ir a buscar a su verdadera familia, en el camino ocurrió una disputa en la que Edipo mato a Layo, sin saber que el era su verdadero 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dipo llega finalmente a Teb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en tebas, Edipo acaba con la esfinge que dominaba el pueblo y se gano la mano de Yocasta, vuida de Layo, y con ella tubo 4 h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aso del tiempo se llega a conocer tod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476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verdad es que Edipo se ha casado con su madre, Yocasta, y que el fue quien mato a su propio padre, esto provocó que Yocasta se suicidara y que Edipo se arrancara los ojos, porque nada de lo que había vivido er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024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ículas referentes a Edipo 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emos encontrar varias películas que tienen como referente  Edipo Rey de Sóflocles. Son las siguientes entre muc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erosa Afrod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á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ntérp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Historia O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529080" cy="233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352908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859280" y="3938760"/>
            <a:ext cx="3600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0:20:33Z</dcterms:created>
  <dc:creator>WinuE</dc:creator>
  <dc:description/>
  <dc:language>en-US</dc:language>
  <cp:lastModifiedBy>WinuE</cp:lastModifiedBy>
  <dcterms:modified xsi:type="dcterms:W3CDTF">2010-04-18T19:27:04Z</dcterms:modified>
  <cp:revision>4</cp:revision>
  <dc:subject/>
  <dc:title>EDIPO REY</dc:title>
</cp:coreProperties>
</file>